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0E2D-2D7D-443F-826E-0BF303F0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AB10-DF11-4850-A321-EB3C5C52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FD64-6696-4D39-837B-0CD13B91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72B0-7649-422A-8217-1EE19D39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E040-49DA-42C0-9D70-1FF29C88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04F7-3F2A-4C32-AECE-224DC879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BB6D-14A8-480F-B9A1-68865E9C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30D1-32B4-4013-AA68-A3316654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0980-5C38-4345-AA71-2DEC6E30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2F24-B7CB-412C-8278-7D448768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F75C-63A5-48A5-9B43-D159B03B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E81E-0E87-44E5-B763-DDC71F9E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1EB4-142B-4802-B7DA-D30F4406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8CA5-11FE-40E5-A8FB-B18F7907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C6BC-430A-416F-8557-E0888D00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29E8-66BE-4815-A70C-392FD9E4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E1F6-9F62-4C4A-B155-75D74EC0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FCE75-3613-4CF5-91C6-3DC14DB1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FC2A-23D1-45AF-A57C-02020D30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1B38-B633-4450-9D45-EC35B888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9187-1768-4260-BAB9-58939119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7FAE7-6163-409E-B57E-7DC1427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B6B4E-F0A0-40E8-B105-93593FBD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72D1-7A4A-4D72-85AC-C0BA70B7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4F4C-FBC8-429F-82C2-511A6522F0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C2E3-B2EF-4686-9D5F-361466A864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b9fa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549360"/>
            <a:ext cx="784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erlin Sans FB"/>
              </a:rPr>
              <a:t>LA NOTTE NELLA CULTURA</a:t>
            </a:r>
            <a:endParaRPr b="1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396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48"/>
                </a:solidFill>
                <a:latin typeface="Script MT Bold"/>
              </a:rPr>
              <a:t>Di Teodora Stefanelli </a:t>
            </a:r>
            <a:r>
              <a:rPr b="1" i="1" lang="it-IT" sz="2400" spc="-1" strike="noStrike">
                <a:solidFill>
                  <a:srgbClr val="000048"/>
                </a:solidFill>
                <a:latin typeface="Times New Roman"/>
              </a:rPr>
              <a:t>III</a:t>
            </a:r>
            <a:r>
              <a:rPr b="1" lang="it-IT" sz="2400" spc="-1" strike="noStrike">
                <a:solidFill>
                  <a:srgbClr val="000048"/>
                </a:solidFill>
                <a:latin typeface="Script MT Bold"/>
              </a:rPr>
              <a:t>B Liceo Classico Vittorio Emanuele </a:t>
            </a:r>
            <a:r>
              <a:rPr b="1" i="1" lang="it-IT" sz="2400" spc="-1" strike="noStrike">
                <a:solidFill>
                  <a:srgbClr val="000048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48"/>
                </a:solidFill>
                <a:latin typeface="Script MT Bold"/>
              </a:rPr>
              <a:t>a.s  2006/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3:31:11Z</dcterms:created>
  <dc:creator>Utente Microsoft</dc:creator>
  <dc:description/>
  <dc:language>en-US</dc:language>
  <cp:lastModifiedBy>Utente Microsoft</cp:lastModifiedBy>
  <dcterms:modified xsi:type="dcterms:W3CDTF">2007-06-12T16:05:23Z</dcterms:modified>
  <cp:revision>5</cp:revision>
  <dc:subject/>
  <dc:title>Diapositiva 1</dc:title>
</cp:coreProperties>
</file>